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6546-CE3F-47EB-9EB6-06E2C9DD7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8D0A-9B5A-41BB-BB9D-BFEBD6C0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F4C0-1733-42CE-A2E6-674067FB4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5A99-75B3-47A6-A0F3-7221AB2E5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424D-1AAF-4139-B6DE-DE085866A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F263-DE60-4D61-8DFB-0D86BDD54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5633-EE88-404A-9BB6-32F18732D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3EE3-0B51-495B-AAFD-1EC4E04C1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C6B8-0967-4CB5-BA76-750A8E13E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F4B0-B9EC-4D35-87C1-FFA45465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A7FB-82B5-47CA-951B-0DD5F7BD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4ED6-C189-431C-9ABD-40126E9E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0DF78-3576-4B74-89B3-62DB8B505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76720" y="2666880"/>
            <a:ext cx="228600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 Child Left Beh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72200" y="2743200"/>
            <a:ext cx="144792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ount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00200" y="1676520"/>
            <a:ext cx="175248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prehensive Instr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 flipV="1">
            <a:off x="2666520" y="2209320"/>
            <a:ext cx="8384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66680" y="3657600"/>
            <a:ext cx="15242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ducation Standa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590920" y="365760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867280" y="3657600"/>
            <a:ext cx="129564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hievement T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391520" y="3657600"/>
            <a:ext cx="144756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udent Achiev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343400" y="4572000"/>
            <a:ext cx="99072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15200" y="4495680"/>
            <a:ext cx="144792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Involv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5486400" y="297180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371600"/>
            <a:ext cx="167652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equate Yearly Progr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4724280" y="19810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15000" y="1905120"/>
            <a:ext cx="11430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400800" y="32767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467480" y="2133720"/>
            <a:ext cx="114300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acher Trai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388620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7391520" y="25146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7391160" y="3200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01000" y="4191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1800" y="5935680"/>
            <a:ext cx="736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541008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arch question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ow significant is accountability in the No Child Left Behind Progra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arch phrase: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no child left behind AND accoun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2T17:18:47Z</dcterms:created>
  <dc:creator> Robert B. Niedbala</dc:creator>
  <dc:description/>
  <dc:language>en-US</dc:language>
  <cp:lastModifiedBy> Robert B. Niedbala</cp:lastModifiedBy>
  <dcterms:modified xsi:type="dcterms:W3CDTF">2008-11-11T23:28:20Z</dcterms:modified>
  <cp:revision>18</cp:revision>
  <dc:subject/>
  <dc:title>Slide 1</dc:title>
</cp:coreProperties>
</file>